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67546-F11B-4A59-AE25-776CEF3CA9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D2C7C-461C-4B02-B90D-1D394A251D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2B2476E0-2CB4-4BB4-A6E4-F6D86720FC5B}"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1AB8D67-7846-44A9-B50A-AE6BC2624D7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78EDB5D-6976-4B97-B772-BB3DAE36E89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7478745-D5E0-46F1-A8C9-79495CEFD4A4}" type="datetime">
              <a:rPr b="0" lang="en-US" sz="1200" spc="-1" strike="noStrike">
                <a:solidFill>
                  <a:srgbClr val="000000"/>
                </a:solidFill>
                <a:latin typeface="Times New Roman"/>
                <a:ea typeface="Arial"/>
              </a:rPr>
              <a:t>07/30/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96C3B09-5B15-407D-B80A-574F1F9AB4D4}" type="datetime3">
              <a:rPr b="0" lang="en-US" sz="1200" spc="-1" strike="noStrike">
                <a:solidFill>
                  <a:srgbClr val="000000"/>
                </a:solidFill>
                <a:latin typeface="Times New Roman"/>
                <a:ea typeface="Arial"/>
              </a:rPr>
              <a:t>July 30,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DC87CF1-69DA-462F-BA72-1DA877F9686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D39D84-8032-40F9-B0A0-DCD3DF6379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F3DB3-3094-48B5-937D-5CCE439E7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E4C48E-D3C2-4EEC-BF84-6BF9F02E5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7FA94C-EE35-43E4-A5C4-3E0F9C28DF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3C13D-17C8-46FF-AB62-10F46BA63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F5912D-7BF0-47DD-AA4B-464AA55697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D4CFF4-AE8E-4373-8D2A-5FE964D473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D40CB6-3FDB-4982-9D81-6027A43009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D51F4D-8880-45F1-91D1-8521368591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390DFF-9B15-42C8-A5E3-4FACA169C7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F741F-B241-4F11-B896-2CF8A5904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BE0B5F-5AD1-4F86-8C87-90D5697317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112745-CAFA-44D2-AFA2-40C8F1BAF1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9BE3E-0538-4E9C-8704-C34A58F36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3C6C4-9CA8-43BA-90C1-ACF84CC34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3C3D6D-03B7-493F-8CFC-906F8D4F62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153290-9BD2-4638-AD45-77F007FA38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D64A49-AACA-4C33-ADAF-1DFE4D3A8D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13671-B1BF-4EAE-82EC-2A1B52A29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A3E2E-66A3-4E7C-9968-74D13AF36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A74B5-1F9E-49FB-A621-FE9733437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5FB5F-7CE3-4AC5-AE85-A62B86011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FCD60-15AA-4834-BB90-6DB86780C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054E9-AB9F-426E-BB84-D5DB98F43B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FF5FC-3039-480C-A8C8-7453DC3AB5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F937D1E-8CCF-4EA7-805E-9169985B277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DCE3B23-9803-4519-B902-A5610070AD0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F169834-0EC1-4763-94DB-39B1A258C33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06F13-9F8E-4B6C-859F-F9E5911E0A63}"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4826EF8-FA5F-4FA0-A893-492E64987C2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360C646-A53B-4BD6-8DD2-0CEA3777069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56A73AA-1535-4352-A82C-A7A7626B226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